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F294C-1F93-496C-BC4B-D90B61C530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2FD9A-B375-49F4-AA00-752D8D0B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057D9-4ED4-4F59-B85D-D5A4F508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9F71-8A8B-4EBC-9ADB-C3E3D6BBBB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31F9-DD0E-4364-849C-C0978633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8E5ED-5437-4F35-A2C7-D4BB152D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DF12D-7375-46C1-9FD5-CD9FA660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90B2E-A6E9-4277-BD1A-C54F546D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90F04-A820-43AD-98BA-AF8C23DA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1E409-7E89-4E13-BF81-5B1C2E5A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E6A59-136F-40AE-BC28-8C8F1799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41689-5853-4038-A831-B0DC9894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D753-368B-433D-ADF8-EA13E956E4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九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营养支持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，而不能或不愿正常进食的进行肠内营养支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管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初期最好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00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始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后逐渐增加至需要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室温下使用，打开前需先摇匀，若患者胃肠道能够耐受，则不需要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胃肠道不适，减慢管饲速度即可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、完全性小肠梗阻、严重的腹腔内感染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不适用于需要低渣饮食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的婴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作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不宜过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在使用过程中，注意液体平衡，保证足够的液体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室温下保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启后放置于冰箱内。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素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型肠内营养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患者的肠内全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适应证是厌食及其相关的疾病、机械性胃肠道功能紊乱、危重疾病、营养不良患者的手术前喂养、胃肠道准备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饮用或饲喂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氨基酸型肠内营养剂。以氨基酸为氮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经肠黏膜可直接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能促进肠黏膜再生，阻止细菌和毒素移位，且可改善结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患者的营养支持，消化道功能不全以及短肠患者，肠道炎性患者，也可用于烧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经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肠管或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管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依据年龄、体重或病情适当调整剂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恶心、腹胀、腹痛、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极少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S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P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尿素氮及血糖上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重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大量激素后糖代谢异常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适用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肠大面积切除后短肠综合征、肾衰未透析者、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百普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pti-2000 varia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短肽、氨基酸为基础的低脂肪配方的短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易消化、吸收完全、生物利用度高，且渗透压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胃肠道消化吸收不良患者的肠内营养支持，主要适应证是代谢性肠道功能紊乱、危重疾病、营养不良患者的手术前喂养、胃肠道准备等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冲调后经管道喂养或直接饮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；完全性肠梗阻；严重的腹腔内感染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均衡、整蛋白型、含中链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无膳食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无严重消化或吸收功能障碍、但有营养摄入障碍的患者，或用于术前或诊断前肠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应用于成年患者以及禁用膳食纤维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安素、能全力、瑞素、脂肪乳、复方氨基酸注射液的药理作用、临床应用、不良反应和药疗监护须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全素、百普素、瑞代、复方支链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作用特点、用法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爱伦多、复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酸的药理作用、临床应用、不良反应；复合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的作用特点、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管饲或口服使用，应按照患者体重和营养状况计算每日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所有不适于用肠内营养的疾病，及有严重消化和吸收功能障碍的疾病禁用本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液体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妊娠期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月的孕妇和可能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怀孕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育龄妇女使用本品时，应注意每日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香豆素类抗凝剂者应注意药物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过量或速度过快，会发生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下，密闭保存，不得冰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摇匀，有效期内使用。开启后最多可在冰箱内保存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代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 diabete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专供糖尿病患者使用的肠内全营养制剂，含膳食纤维，不含牛奶蛋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糖尿病患者进行肠内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全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本品所含物质有先天性代谢障碍的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果糖有先天性不耐受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酸和必需氨基酸，减少氨基氮的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氨基酸和蛋白代谢紊乱，促进蛋白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本身不含有氨基，其利用非必需氨基酸的氮转化为氨基酸，因此可减少尿素合成，尿毒症毒性产物的蓄积也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不引起残存肾单位的高滤过，并可改善肾性高磷血症和继发性甲状旁腺功能亢进，改善肾性骨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合低蛋白饮食，可减少氮的摄入，同时可避免因蛋白摄入不足及营养不良引起的后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防和治疗慢性肾功能不全而造成蛋白质代谢失调引起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用餐期间整片吞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发生高钙血症。高钙血症和氨基酸代谢紊乱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定期监测血钙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遗传性苯丙酮尿患者使用本品时，须注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如同时使用氢氧化铝药物，需减少氢氧化铝的服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血磷水平的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了不影响药物吸收，与钙结合形成难溶性复合物的药物不应与开同同时服用，间隔时间至少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钙升高可增加强心甙药物的敏感性，也增加发生心律失常的风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用脂肪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~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乳化黄豆油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2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卵磷脂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甘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提供热量和必需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、肿瘤及大面积烧伤需要大量热能而进食有困难者，肾功能不全需要限制蛋白质的摄入、但又必须供给足够热能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成人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~2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最大剂量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第一日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500ml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不得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，以后可按每分钟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滴速度滴注，但不宜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1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以后每日增加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每小时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170m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每日剂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4g/kg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热、恶心、呕吐、腹痛、呼吸急促等，肝功能损害、溶血、凝血障碍、血小板减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若输注速度过快，超过脂肪吸收的最大速度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/kg/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将发生胸痛、呼吸困难，发绀、恶心、呕吐、低血压或高血压、发冷、发热、潮红、荨麻疹、腹泻、浮肿、嗅觉异常、口腔油腻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液局部可出现静脉炎、血管痛及出血倾向、静脉血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前开始出现进食哽噎感，进食干硬食物难以下咽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症状较前明显加重，进半流食也出现吞咽困难。近半年体重减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130/75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身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2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4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双下肢可见凹陷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严重不全、休克及有严重代谢紊乱，尤其脂肪代谢障碍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、脓毒血症、未控制的糖尿病者、胰腺炎、严重感染、血小板减少、肺部疾患及新生儿黄疸明显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前检查血常规、凝血时间、肝功能、血脂，用药期间，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使用本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周以上必须做脂肪廓清试验。如血浆有乳光或乳色出现，应暂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直接加入脂溶性维生素，水溶性维生素需先溶解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用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溶液中，然后加入本品内，可与氨基酸同用，不得与电解质、其他药物及营养素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、密闭、阴凉干燥处贮存，不得冰冻。一经打开，立即用完。温度过高或过低均可导致乳剂破坏。若单独输注，最常悬挂时间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若发现变色或有沉淀、油滴漂浮，不应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人体必需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种氨基酸和一些非必需氨基酸，以维持正氮平衡和特殊治疗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低蛋白血症、营养不良、手术前后的氨基酸补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静脉滴注，一般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~100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成人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1.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；小儿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计算；滴注速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~3.5ml/min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、电解质异常、微量元素失调、氨基酸转移酶升高、高血氨症、恶心、呕吐、面部潮红、心悸、胸闷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快速滴注可导致胃酸增加、加重溃疡病，甚至造成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可出现皮疹、过敏、红斑、血管痛、血栓性静脉炎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快或给肝、肾功能不全者使用时，可能导致高氮血症和血尿素氮升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对溶液中所含成分过敏者、严重尚未纠正的水电失衡或酸碱失衡、血容量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于肝性昏迷者、严重肝功能障碍、高氮质血症、氨基酸代谢异常者、遗传性果糖不耐症者、严重尿毒症、中毒酸中毒、水肿、高钾血症、充血性心力衰竭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静脉输注时，应缓慢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用完，不可贮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使用，注意定期监测血清电解质、血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肝功能。注意水平衡，防止血容量不足或水过多增加心脏负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液遇冷可能出现结晶，可加热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缓慢摇动使结晶完全溶解后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与两性霉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氨苄西林、羧苄西林、庆大霉素、甲硝唑、四环素等药物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链氨基酸组成，其功能有：代谢生成丙氨酸及酮体，为机体提供能源；促进胰岛素的分泌；胆固醇合成的前体；供给合成蛋白质的必需氨基酸原料；促进蛋白质的合成；抑制蛋白质的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：急性、亚急性、慢性重症肝炎以及肝硬化、慢性活动性肝炎等；各种原因引起的肝性脑病（肝昏迷）；肝胆外科手术前、后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应检查药液，如有浑浊，包装破裂等切勿使用。输注后的剩余药液切勿保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食管静脉曲张时，要注意输注速度和用量，以免静脉压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腹水、胸水时，应注意水的平衡，避免输入量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速度宜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遇冷易析出结晶，可微温溶解后再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者、氨基酸代谢障碍者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非终末期慢性肾衰、低蛋白饮食不能纠正的负氮平衡，也可用于急性肾衰非高分解状态以及各种透析患者营养不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除可与葡萄糖注射液混合滴注外，不宜与其他药物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滴要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血糖、血清蛋白、肾功能、肝功能、电解质、二氧化碳结合力、血钙、血磷等变化，必要时检查血镁和血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白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转铁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3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前清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淋巴细胞总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口服安素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安素的药理作用是什么？②在使用安素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者常需适当应用胰岛素，将血糖控制在较满意的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非糖尿病尿毒症患者如输注高渗葡萄糖，亦应同时应用小剂量胰岛素，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苯丙酸诺龙等也可适当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也可常规应用碳酸氢钠（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但需注意防止水、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毒症性心包炎、尿毒症性脑病、无尿、高钾血症等患者，应首先用透析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用于消化功能不全患者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爱伦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糖尿病患者，肠道功能基本正常，拟行肠内营养支持，适宜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为均衡的全肠道整蛋白型营养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氮的比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具有节约蛋白质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增加肾负担，胆固醇低，不含乳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无法进固体饮食的外伤、慢性病、年老体弱，产妇、术前后及某些必须限制饮食的患者等补充营养，尤其适合于乳糖不耐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鼻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量匙（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本品，加入开水溶解稀释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m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标准稀释液提供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计算决定患者每日用量；或按体重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~7g/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管饲者先给半量，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浓度，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应期逐渐增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浓度和全量，全日量管饲持续滴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每分钟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6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2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按全日量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轻度腹胀，减慢管饲速度即可缓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位高流量肠瘘、短肠综合征及肠衰竭、肠梗阻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不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注射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保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，便频、便稀均是不耐受管喂饮食的表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污染、变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阴凉干燥处保存，不宜放置于冰箱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罐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星期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和纤维型肠内高营养多聚合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含乳糖和蔗糖，可用于乳糖不耐受患者以及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营养素全面。易于消化和吸收，生物利用度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有纤维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了短链脂肪酸，刺激结肠中水和电解质的重吸收，可以防止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4:33Z</dcterms:modified>
  <cp:revision>82</cp:revision>
  <dc:subject/>
  <dc:title>内科护理学</dc:title>
</cp:coreProperties>
</file>